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29B-1D2A-4481-8C5F-FA9DBEAF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AD5-BC68-446A-AF1F-48F397A6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E15-2D8B-4A0C-8FFE-61445F44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D2F-31FB-4B28-82CD-7BA7258B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61E-42CA-4CE9-83BE-17E8ED7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110-E9E9-45D6-9130-688956A5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5EC-7505-496C-9DB1-4070A031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D3B-9ED1-446F-BCE7-8C8A293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771-5001-4F38-BA5E-C304A50D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17B-66CB-4DC2-B679-27AF7A9E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2E4-2D0C-45B9-8280-40B6900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70C-2FAB-46A7-B0E5-D85599C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6D19-2A13-4DAC-B2F1-2F583641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) To revise the daily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) to watch a video with someone explaining the problems with his daily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) to learn how to use the simple future to describe a future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y vas va es 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y vas 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señ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señ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oh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50028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7664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5300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06920" y="350028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6920" y="400536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6920" y="458136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6920" y="515772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268280"/>
          <a:ext cx="7080120" cy="5084640"/>
        </p:xfrm>
        <a:graphic>
          <a:graphicData uri="http://schemas.openxmlformats.org/drawingml/2006/table">
            <a:tbl>
              <a:tblPr/>
              <a:tblGrid>
                <a:gridCol w="2360520"/>
                <a:gridCol w="2358720"/>
                <a:gridCol w="2360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pro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/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/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826920" y="189000"/>
            <a:ext cx="7848720" cy="8254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partner, decide which subject pronoun should go with which reflexive pro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33360"/>
            <a:ext cx="4859280" cy="375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eat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s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g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go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have a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going to have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going to watch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going to have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get 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333360"/>
            <a:ext cx="3960720" cy="4117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comer el desay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afeit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volver 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 a ir al col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levant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duch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mos a comer l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n a ver la 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 a comer el desay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vesti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1:44:53Z</dcterms:created>
  <dc:creator>Owner1</dc:creator>
  <dc:description/>
  <dc:language>en-US</dc:language>
  <cp:lastModifiedBy>Owner1</cp:lastModifiedBy>
  <dcterms:modified xsi:type="dcterms:W3CDTF">2008-09-29T08:41:30Z</dcterms:modified>
  <cp:revision>3</cp:revision>
  <dc:subject/>
  <dc:title>Slide 1</dc:title>
</cp:coreProperties>
</file>